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1596-66E6-483F-B6B5-4C0176DD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15D5-D4ED-45F5-8384-8AEAE879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3EC1-0D3A-4007-B8F3-ABA9E0DD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AF71-88F8-415A-9981-3BC69043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269E-A41E-4572-95A1-6BB3565F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6B0F-5897-42B4-92AD-62BD6049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B4A3-3522-454E-B2E5-8B47C411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C726-AC5D-4865-9B3A-C0152B24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F9AB-F03A-48B5-8168-42801871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3045-E160-4C97-B269-25A677DC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E640-7544-42BA-ACF8-3DE0C22B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EA40-009D-4BF9-B38A-440AEEDC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BE53-4C8C-445C-A802-694DB57216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3" descr="G:\ВОО 17\с шойгу.jpg"/>
          <p:cNvPicPr/>
          <p:nvPr/>
        </p:nvPicPr>
        <p:blipFill>
          <a:blip r:embed="rId1"/>
          <a:stretch/>
        </p:blipFill>
        <p:spPr>
          <a:xfrm>
            <a:off x="189000" y="155520"/>
            <a:ext cx="8928000" cy="640872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8615520" y="185760"/>
            <a:ext cx="528480" cy="45720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9036000" cy="134136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бирая вуз Министерства обороны Российской Федерации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получения высшего образования, гражданин РФ  имеет широкие возможности для самореализации, достойный уровень жизни, высокий социальный статус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08000" y="1267920"/>
            <a:ext cx="9036000" cy="54738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ончив  военную образовательную организац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фицер имее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е денежное довольствие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сплатное вещевое обеспечение, изготовленное  из    качественных   высокотехнологических материал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 приобрести бесплатное жилье в собственность благодаря  военной ипотек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весь период военной службы  служебную квартиру 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сплатную медицинскую помощь в специализированных медицинских учреждениях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жегодный основной отпуск от 30 до 60 суток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 на пенсию при достижении общей продолжительности   военной службы в льготном исчислении– 20 лет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ремя обучения зачисляется в общий стаж военной службы офице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8594640" y="-171360"/>
            <a:ext cx="74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 Ta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8594640" y="74520"/>
            <a:ext cx="549360" cy="33840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" y="48960"/>
            <a:ext cx="9036000" cy="10760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2023 году абитуриентов будут принимать 42  военных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овательных организаций,  которые  готовят военных специалистов  для  всех родов и видов Вооруженных сил РФ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08000" y="1052640"/>
            <a:ext cx="8928000" cy="56894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оенных образовательных организациях высшего образования, специалистов готовят по программе высшего профессионального образования (далее ВПО) и по программе среднего профессионального образования  (далее СПО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обучения по программе ВПО - 5 лет. Выпускники получают диплом специалиста, им присваивается первое воинское звание «лейтенант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обучения по программе СПО - 2 года 10 месяцев. Выпускники получают диплом о среднем профессиональном образовании, им присваивается воинское звание, «прапорщик», «мичман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8496360" y="-24300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 Ta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енные образовательные организации  высшего профессионального образования  Министерства обороны  РФ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4920" y="811080"/>
          <a:ext cx="8894880" cy="5967720"/>
        </p:xfrm>
        <a:graphic>
          <a:graphicData uri="http://schemas.openxmlformats.org/drawingml/2006/table">
            <a:tbl>
              <a:tblPr/>
              <a:tblGrid>
                <a:gridCol w="8894880"/>
              </a:tblGrid>
              <a:tr h="50976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Московское высшее военное командное училище (военный институт) общевойсково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командир  мотострелкового взвод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61416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Казанское высшее военное танковое училищ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командир  танкового  взвод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88128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Новосибирское высшее военное командное училище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командир мотострелкового взв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мандир взвода войсковой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азведк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54620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Дальневосточное высшее общевойсковое командное училище (г. Благовещенск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командир мотострелкового взво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мандир взвода морской пехот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занское  гвардейское  высшее воздушно-десантное командное училище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командир взвода воздушно-десантных вой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мандир взвода войсковой разведки Воздушно-десантных войск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201924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Тюменское высшее военно-инженерное командное училище (военный институт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эксплуатации инженерных электротехнически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женер по эксплуатации  инженерно-позиционных подразделен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Михайловская военная артиллерийская  академия (г. Санкт-Петербург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командир взвода артилле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мандир взвода артиллерийской разведки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мандир взвода артиллерии воздушно-десантных войск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9708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88" name="Прямоугольник 5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енные образовательные организаций  высшего профессионального образования  Сухопутных войск МО РФ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4920" y="-104760"/>
          <a:ext cx="9074160" cy="7012080"/>
        </p:xfrm>
        <a:graphic>
          <a:graphicData uri="http://schemas.openxmlformats.org/drawingml/2006/table">
            <a:tbl>
              <a:tblPr/>
              <a:tblGrid>
                <a:gridCol w="9074160"/>
              </a:tblGrid>
              <a:tr h="25092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654048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Военная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адемия войсковой противовоздушной обороны ВС РФ (г. Смоленск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специальных радиотехнических систем (ПВО) воздушного простран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Военная Академия войск радиационной, химической и биологической, защиты и инженерных войск  ( г. Кострома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командир взвода радиационной, химической и биологической защит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ВУНЦ ВВС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Военно-Воздушная академия" ВС РФ (г. Воронеж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эксплуатации летательных аппаратов и двигател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женер по эксплуатации радиотехнических систем и средств обеспечения полетов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ВУНЦ ВВС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Военно-Воздушная академия" ВС РФ (филиал г . Сызрань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летной эксплуатации авиационных комплексов (вертолетов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НЦ ВВС "Военно-Воздушная академия" ВС РФ (филиал г . Челябинск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эксплуатации воздушных судов и организации воздушного движе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ское высшее военное училище лётчиков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 летчик различных видов военной  авиации (истребительной, фронтов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бомбардировочной, штурмовой и т.д.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Военно-космическая академия имени А.Ф.Можайского (г. Санкт-Петербург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проектированию,  производству  и  эксплуатации  ракет  и  ракетно космических комплексов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 Ярославское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ее военное училище противовоздушной оборон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применению и эксплуатации автоматизированных систе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ьного  назначения (радиоэлектронной борьбы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Военная Академия воздушно-космической обороны   имени Г.К. Жукова( г. Тверь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применению и эксплуатации комплексов контроля исполь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22068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92" name="Прямоугольник 5"/>
          <p:cNvSpPr/>
          <p:nvPr/>
        </p:nvSpPr>
        <p:spPr>
          <a:xfrm>
            <a:off x="8459640" y="166680"/>
            <a:ext cx="505080" cy="43344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енные образовательные организаций  высшего профессионального образования  Сухопутных войск МО РФ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-101520" y="-96840"/>
          <a:ext cx="9245520" cy="7101000"/>
        </p:xfrm>
        <a:graphic>
          <a:graphicData uri="http://schemas.openxmlformats.org/drawingml/2006/table">
            <a:tbl>
              <a:tblPr/>
              <a:tblGrid>
                <a:gridCol w="9245520"/>
              </a:tblGrid>
              <a:tr h="25092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464004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УНЦ ВМФ " ВМА», филиал: Военный Институт Военно-морской институт-морской корпус Петра Великого: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применению и эксплуатация технических систем надводных кораблей и подводных лодок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НЦ ВМФ, «ВМА», филиал: Военно-морской политехнический институт-высшее военное морское инженерное училище (г. Санкт-Петербург,  г. Пушкин):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строительству, ремонту и поисково-спасательному обеспечению надводных кораблей и подводных лодок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НЦ ВМФ «ВМА» , филиал: Балтийский Военно-морской институт им. адмирала Ф.Ф. Ушакова)  ( г. Калининград)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 по применению и эксплуатации артиллерийского и зенитно-ракетного вооружения надводных корабле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хоокеанское высшее военно-морское училище (г. Владивосто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применению и эксплуатация технических систем надвод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раблей и подводных лодок, инженер по радиоэлектронным системам и комплексам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Черноморское высшее военно-морское училище  ( г. Севастопол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инженер по применению и эксплуатации береговых ракетных комплексов и                           артиллерии        инженер по технике и технологии кораблестроения и водного транспорт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 Военная академия Ракетных войск стратегического назначения (г. Балаших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 Филиал Военной академии  Ракетных войск стратегического назначения  (г. Серпух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 : специалисты по стартовым и техническим комплексам ракет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22724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Военная Академия связи (г. Санкт-Петербург)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 специалист радиосвязи специального назначения  специалист специальной спутниковой связ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автоматизированных систем обработки информации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 управле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ское высшее военное училищ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по информационной безопасности автоматизированных систем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98280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енный университет радиоэлектроники  (г. Череповец Вологодская област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специалист по автоматизированным системам упр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по специальным радиотехническим систем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96" name="Прямоугольник 5"/>
          <p:cNvSpPr/>
          <p:nvPr/>
        </p:nvSpPr>
        <p:spPr>
          <a:xfrm>
            <a:off x="8575560" y="63360"/>
            <a:ext cx="466920" cy="40824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-17640"/>
          <a:ext cx="9083520" cy="6978960"/>
        </p:xfrm>
        <a:graphic>
          <a:graphicData uri="http://schemas.openxmlformats.org/drawingml/2006/table">
            <a:tbl>
              <a:tblPr/>
              <a:tblGrid>
                <a:gridCol w="9083520"/>
              </a:tblGrid>
              <a:tr h="25092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220212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 Военный Университет МО РФ  г. Москва,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по окончании: военные журналисты,  психологи,  дирижеры, юристы, финансисты, переводчики, лингвист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УЗы военной академии материально –технического обеспечени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Военная Академия материально-технического обеспечения (г. Санкт-Петербур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 Военная академия материально технического обеспечения ( филиал г. Санкт-Петербург) Военный институт  (ЖДВ и ВОС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Военная академии материально технического обеспечения (филиал г. Санкт-Петербург) ВИ (инженерно-техническ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427500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Военная академия материально технического обеспечения (филиал г. Вольск, Саратовская обл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Военная Академия материально технического обеспечения(филиал г. Пенз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Военная Академия материально технического обеспечения (филиал г. Омс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специалисты по тыловому обеспечению,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втотехническому обеспечению войск, применению автомобильных подразделений и частей, ремонту и хранению радиолокационных станций и радиотехнических средств,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троительству и эксплуатации фортификационных сооружений и маскировки, строительству железных дорог, путей и путевого хозяй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енно-медицинская академия  имени С.М.Кирова  (г. Санкт-Петербург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врачи, провизор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кт-Петербургский  военный институт физической культур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окончании: специалисты по физической культуре и спорт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183 Учебный центр (г. Ростов-на Дону» (по программе  среднего профессионального образования)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 окончании: техник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1 школа техников РВСН (г. Знаменск Астраханской обл.) (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рограмме  среднего профессионального образования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;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 окончании: техник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25092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99" name="Прямоугольник 5"/>
          <p:cNvSpPr/>
          <p:nvPr/>
        </p:nvSpPr>
        <p:spPr>
          <a:xfrm>
            <a:off x="8615520" y="81000"/>
            <a:ext cx="468000" cy="32364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9061560" cy="10526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енные образовательные организации  высшего профессионального образования  федеральных органов исполнительной власти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8000" y="1092240"/>
          <a:ext cx="8953560" cy="5505480"/>
        </p:xfrm>
        <a:graphic>
          <a:graphicData uri="http://schemas.openxmlformats.org/drawingml/2006/table">
            <a:tbl>
              <a:tblPr/>
              <a:tblGrid>
                <a:gridCol w="8953560"/>
              </a:tblGrid>
              <a:tr h="3938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оенные институты  Федеральной службы войск национальной гвардии РФ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8031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Санкт-Петербургский военный институт ФСВНГ  РФ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ончании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в области правового обеспечения национальной безопас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в области психологии служеб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8031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 Саратовский военный институт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СВНГ  РФ   по окончании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в области правового обеспечения национальной безопас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7779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 Пермский военный институт ФСВНГ  РФ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ончании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по радиотехническим системам и комплексам охранного мониторинга;                                            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0573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. Новосибирский военный институт ФСВНГ  РФ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ончании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в области правового обеспечения национальной безопаснос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по переводам и переводоведени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866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РФ  по делам гражданской обороны, чрезвычайным ситуациям и ликвидации последствий стихийных бедст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803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Академия гражданской защиты МЧС по окончани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по применению подразделений воинских спасательных формирован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иалист в области техносферной безопас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103" name="Прямоугольник 4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9061560" cy="6206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уществляют прием граждан женского пол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енные образовательные организации Министерства Обороны  РФ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320" y="676440"/>
          <a:ext cx="9094680" cy="6181560"/>
        </p:xfrm>
        <a:graphic>
          <a:graphicData uri="http://schemas.openxmlformats.org/drawingml/2006/table">
            <a:tbl>
              <a:tblPr/>
              <a:tblGrid>
                <a:gridCol w="9094680"/>
              </a:tblGrid>
              <a:tr h="61815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Военная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адемия войск радиационной, химической и биологической защиты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инженерных войск (г. Кострома)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ец. « Технологии веществ и материалов в вооружении и военной технике»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Филиал ВУНЦ ВМФ « Военно-морская академия»(военно-морской политехнический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. Санкт –Петербург. г. Пушкин)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ец. « Применение  и эксплуатация автоматизированных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истем специального назначения»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Филиал ВУНЦ ВМФ « Военно-морская академия» филиал  (г. Калининград)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ец. « Инфокоммуникационные  технологии и системы специальной связи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Краснодарское высшее военное авиационное училище лётчиков (г. Краснодар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ец. « Летная эксплуатация и применение авиационных комплексов»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Военная академия воздушно-космической обороны  (г. Тве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ь),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ец. Применение и эксплуатация вычислительных средств АСУ ПВО;  Математическое, программное и информационное обеспечение функционирования комплексов АСУ ПВО; Применение и эксплуатация комплексов средств автоматизации контроля использования воздушного пространства</a:t>
                      </a: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Военная академия ракетных войск стратегического назначения (г. Балашиха)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ец. « Применение  и эксплуатация автоматизированных систем специальн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значения»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Военная академия связи (г. Санкт-Петербург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ец. « Применение  и эксплуатац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втоматизированных систем специального назначения»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Военный Университет МО РФ  (г. Москва),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ец. « Перевод и переводоведение»,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Психология служебной деятельности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Военно-медицинская академия (г. Санкт-Петербу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г),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ец. « Лечебное дело»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107" name="Прямоугольник 4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9061560" cy="6206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чень индивидуальных достижений кандидатов, учитываемых при приеме на 1-й курс для обучения курсан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9320" y="676440"/>
          <a:ext cx="9094680" cy="6181560"/>
        </p:xfrm>
        <a:graphic>
          <a:graphicData uri="http://schemas.openxmlformats.org/drawingml/2006/table">
            <a:tbl>
              <a:tblPr/>
              <a:tblGrid>
                <a:gridCol w="9094680"/>
              </a:tblGrid>
              <a:tr h="61815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Наличие статуса чемпиона и призера Олимпийских игр, чемпиона мира, чемпиона Европы по видам спорта, включенным в программы Олимпийских игр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Наличие аттестата о среднем общем образовании с отличием, для награжденных золотой  и серебряной медалью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аличие диплома о среднем профессиональном образовании с отличием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– 10 баллов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Наличие аттестата о среднем общем образовании (диплома о среднем профессиональном образовании) с не менее 50% итоговыми отметками «отлично» (остальные - «хорошо»)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7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Результаты участия кандидатов на обучение в олимпиадах , в творческих конкурсах и спортивных мероприятиях, проводимых образовательными организациями Министерства образования и науки,   победитель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 баллов, призер  - 5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Результаты участия кандидатов в олимпиадах школьников по профильной дисциплине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и четырех лет  при наличии у них результатов ЕГЭ не ниже 60 баллов по профильной дисциплине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победитель – 7 баллов, призер  - 5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Наличие аттестата выпускника довузовской образовательной организации со специальными наименованиями, перечисленными в статье 86 Федерального закона от 29 декабря 2012 г. № 273-ФЗ «Об образовании в Российской Федерации» (диплома выпускника профессиональных образовательных организаций), находящихся в введении  Министерства обороны Российской Федерации –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 бал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111" name="Прямоугольник 4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9061560" cy="6206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чень индивидуальных достижений кандидатов, учитываемых при приеме на 1-й курс для обучения курсан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4920" y="676440"/>
          <a:ext cx="9109080" cy="7599240"/>
        </p:xfrm>
        <a:graphic>
          <a:graphicData uri="http://schemas.openxmlformats.org/drawingml/2006/table">
            <a:tbl>
              <a:tblPr/>
              <a:tblGrid>
                <a:gridCol w="9109080"/>
              </a:tblGrid>
              <a:tr h="76302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Наличие спортивного разряда или спортивного звания по видам спорта, включенным в программы Олимпийских игр или военно-прикладным видам спорта 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астер спорта 10 баллов , КМС-7 баллов, 1 разряд-6 баллов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стальным видам спорта: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С, КМС – 5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Наличие наград, подтвержденных соответствующим документом (удостоверением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государственная награда Российской  Федерации – 10 баллов,  ведомственный знак отличия Министерства обороны Российской Федераци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–7 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Наличие удостоверения ветерана боевых действий –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Наличие личной книжки юнармейца , при условии, что кандидат является  участником движения не менее  1 года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– 5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Наличие документа участника сообщества «Братство Авангард», при условии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то кандидат является выпускником УМЦ ВПВ «Авангард»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– 5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Наличие золотого знака отличия Всероссийского физкультурно-спортивного комплекса «Готов к труду и обороне (ГТО) и удостоверения к нему установленного образца при условии сдачи кандидатом вступительного испытания по физической подготовленности на оценку «отлично»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3 балл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За участие в волонтерской деятельности –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т 1 до 4 балл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 за вышеперечисленные индивидуальные достижения суммируются, поступающему может быть начисле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лее 10 баллов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важаемые кандидаты, прием заявлений в военных комиссариат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месту жительства начат с  сентября 2022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ас ждут военные образовательные организации!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115" name="Прямоугольник 4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8000" y="49320"/>
            <a:ext cx="9036000" cy="64296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ть такая профессия – Родину защищать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8000" y="691920"/>
            <a:ext cx="8928000" cy="60498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ессия офицер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героическая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нравственная    професси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ессия офицера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красивая професси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е красят   военная  форма и боевые награды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ессия офицера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боевая професси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ессия офицера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фессия защитника Отечеств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ессия офицера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фессия защитника Отечеств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фицеры-бойцы первой линии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ими страна, в случае необходимости им принима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бя  первый удар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8496360" y="-24300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 Ta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"/>
          <p:cNvSpPr/>
          <p:nvPr/>
        </p:nvSpPr>
        <p:spPr>
          <a:xfrm>
            <a:off x="8642520" y="88920"/>
            <a:ext cx="457200" cy="45720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9061560" cy="6206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чень индивидуальных достижений кандидатов, учитываемых при приеме на 1-й курс для обучения курсан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08000" y="676440"/>
          <a:ext cx="9036000" cy="7873920"/>
        </p:xfrm>
        <a:graphic>
          <a:graphicData uri="http://schemas.openxmlformats.org/drawingml/2006/table">
            <a:tbl>
              <a:tblPr/>
              <a:tblGrid>
                <a:gridCol w="9036000"/>
              </a:tblGrid>
              <a:tr h="7904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Наличие спортивного разряда или спортивного звания по видам спорта, включенным в программы Олимпийских игр или военно-прикладным видам спорта 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астер спорта 10 баллов , КМС-7 баллов, 1 разряд- 6 баллов, по остальным видам спорта МС, КМС – 5 балл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Наличие наград, подтвержденных соответствующим документом (удостоверением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государственная награда Российской  Федерации – 10 баллов,  ведомственный знак отличия Министерства обороны Российской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едераци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–7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Наличие удостоверения ветерана боевых действий –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Наличие личной книжки юнармейца , при условии, что кандидат имеет стаж 1 год 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июля года поступлени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– 5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Наличие золотого знака отличия Всероссийского физкультурно-спортивного комплекса «Готов к труду и обороне (ГТО) и удостоверения к нему установленного образца при условии сдачи кандидатом вступительного испытания по физической подготовленности на оценку «отлично»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3 бал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 Наличие документа участника сообщества «Братство Авангарда», при условии, что кандидат является выпускником УМЦ ВПВ «Авангард»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 балл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За участие в добровольческой (волонтерской деятельности) продолжительностью не менне 100 часов в год –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т 1 до 4 балл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 за вышеперечисленные индивидуальные достижения суммируются, поступающему может быть начисле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лее 10 баллов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важаемые кандидаты, прием заявлений в военных комиссариат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 месту жительства начат с  сентября 2022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ас ждут военные образовательные организации!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119" name="Прямоугольник 4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0"/>
          <a:ext cx="9109080" cy="7024680"/>
        </p:xfrm>
        <a:graphic>
          <a:graphicData uri="http://schemas.openxmlformats.org/drawingml/2006/table">
            <a:tbl>
              <a:tblPr/>
              <a:tblGrid>
                <a:gridCol w="9109080"/>
              </a:tblGrid>
              <a:tr h="55180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7542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7524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pic>
        <p:nvPicPr>
          <p:cNvPr id="122" name="Picture 14" descr="C:\Users\User\Desktop\ВОО 17\вольск.jpg"/>
          <p:cNvPicPr/>
          <p:nvPr/>
        </p:nvPicPr>
        <p:blipFill>
          <a:blip r:embed="rId1"/>
          <a:stretch/>
        </p:blipFill>
        <p:spPr>
          <a:xfrm>
            <a:off x="0" y="3822840"/>
            <a:ext cx="4691160" cy="31352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"/>
          <p:cNvPicPr/>
          <p:nvPr/>
        </p:nvPicPr>
        <p:blipFill>
          <a:blip r:embed="rId2"/>
          <a:stretch/>
        </p:blipFill>
        <p:spPr>
          <a:xfrm>
            <a:off x="6480" y="157320"/>
            <a:ext cx="4527360" cy="3687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C:\Users\User\Desktop\фото с парада\parad68-086.jpg"/>
          <p:cNvPicPr/>
          <p:nvPr/>
        </p:nvPicPr>
        <p:blipFill>
          <a:blip r:embed="rId3"/>
          <a:stretch/>
        </p:blipFill>
        <p:spPr>
          <a:xfrm>
            <a:off x="4495680" y="157320"/>
            <a:ext cx="4610160" cy="3665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C:\Users\User\Desktop\фото с парада\b032819e4946e693240ec062328013e8.jpeg"/>
          <p:cNvPicPr/>
          <p:nvPr/>
        </p:nvPicPr>
        <p:blipFill>
          <a:blip r:embed="rId4"/>
          <a:stretch/>
        </p:blipFill>
        <p:spPr>
          <a:xfrm>
            <a:off x="4495680" y="3822840"/>
            <a:ext cx="4610160" cy="32065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7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49320"/>
            <a:ext cx="9036000" cy="64296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ть такая профессия – Родину защищать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8000" y="691920"/>
            <a:ext cx="8928000" cy="60498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8496360" y="-24300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 Ta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1"/>
          <p:cNvSpPr/>
          <p:nvPr/>
        </p:nvSpPr>
        <p:spPr>
          <a:xfrm>
            <a:off x="8642520" y="88920"/>
            <a:ext cx="457200" cy="45720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User\Desktop\На печать методичка\Вертолет.jpeg"/>
          <p:cNvPicPr/>
          <p:nvPr/>
        </p:nvPicPr>
        <p:blipFill>
          <a:blip r:embed="rId1"/>
          <a:stretch/>
        </p:blipFill>
        <p:spPr>
          <a:xfrm>
            <a:off x="4689360" y="3816360"/>
            <a:ext cx="4410360" cy="3025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User\Desktop\На печать методичка\Моряки.jpg"/>
          <p:cNvPicPr/>
          <p:nvPr/>
        </p:nvPicPr>
        <p:blipFill>
          <a:blip r:embed="rId2"/>
          <a:stretch/>
        </p:blipFill>
        <p:spPr>
          <a:xfrm>
            <a:off x="165240" y="3914640"/>
            <a:ext cx="4503600" cy="2913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User\Desktop\На печать методичка\DMBs5nQWsAEA_V0.jpg"/>
          <p:cNvPicPr/>
          <p:nvPr/>
        </p:nvPicPr>
        <p:blipFill>
          <a:blip r:embed="rId3"/>
          <a:stretch/>
        </p:blipFill>
        <p:spPr>
          <a:xfrm>
            <a:off x="165240" y="719280"/>
            <a:ext cx="4503600" cy="3186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C:\Users\User\Desktop\На печать методичка\парад (1).jpg"/>
          <p:cNvPicPr/>
          <p:nvPr/>
        </p:nvPicPr>
        <p:blipFill>
          <a:blip r:embed="rId4"/>
          <a:stretch/>
        </p:blipFill>
        <p:spPr>
          <a:xfrm>
            <a:off x="4689360" y="836640"/>
            <a:ext cx="4427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8650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качестве кандидатов на поступление в военные образовательные организации для обучения курсантами рассматриваются граждане Российской Федераци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7640" y="1052640"/>
            <a:ext cx="8953560" cy="56894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меющие среднее общее, среднее профессиональное образование (начальное профессиональное образование, если в нем есть запись о получении среднего общего образования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дные по состоянию здоровь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изически подготовленны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меющие по профессиональной пригодности первую, вторую и третью категори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аждане соответствующие возрасту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 16 до 22 лет, не проходившие военную служб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шедшие военную службу, и военнослужащие, проходящие военную службу по призыву, - до достижения ими возраста 24 ле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еннослужащие, проходящие военную службу по контракту (кроме офицеров), поступающие в вузы для обучения по программам с полной военно-специальной подготовкой , - до достижения ими возраста 27 ле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оступающие в вузы для обучения по программам со средней военно-специальной подготовкой  - до достижения ими возраста 30 лет </a:t>
            </a:r>
            <a:r>
              <a:rPr b="1" lang="ru-RU" sz="2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8642520" y="88920"/>
            <a:ext cx="457200" cy="45720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9036000" cy="8366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чень необходимых документов для оформлен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личного дела кандида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78920" y="836640"/>
            <a:ext cx="8882280" cy="59054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явление ( подают в военный комиссариат по месту жительства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серокопия свидетельства о рожден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серокопия документа, удостоверяющего личность и гражданств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втобиограф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авка о текущей успеваем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авка о физической подготовлен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арактеристика с места учебы или работы (службы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авка об отсутствии судимости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серокопия документа государственного образца о соответствующем уровн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и заверенные фотографии размером 4,5х6 с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рта профессионального психологического отбор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копия документов, подтверждающие достижения ( дипломы  и грамоты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копия книжки Юнармейца, удостоверения значка ГТО и спорт. достижен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рта медицинского освидетельствования с результатами медицинских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й и с детской амбулаторной картой и сертификатом привив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360" y="907920"/>
            <a:ext cx="9061560" cy="5950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ступления в подавляющее большинство военных образовательных организаций МО РФ требуются результаты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ГЭ по русскому языку, математике (профильный), физик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войсковые училища, Рязанское воздушно-десантное, экономический факультет Военного университета, институты МТО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ГЭ по русскому языку, математике (профильный), обществознанию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ьтет Военного университета «Перевод и переводоведение», специальность «Применение подразделений специальной разведки» Рязанского воздушно-десантного училища, специальность «перевод и переводоведение» Новосибирского военного института ФСВНГ РФ -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ГЭ по русскому языку, иностранному языку, истор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о-медицинская академия  требует результаты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ГЭ по химии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сскому языку, биолог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ый институт физической культуры требует результаты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ГЭ  по русскому  языку и биолог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ндидат должен иметь спортивные звания или спортивные разряды не ниже первого по одному из видов спор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-360" y="26640"/>
            <a:ext cx="9061560" cy="880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тупление в военные образовательные организации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уществляется по результатам ЕГЭ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9036000" cy="8366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ПРИБЫТИЮ В ВОЕННУЮ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ОВАТЕЛЬНУЮ ОРГАНИЗАЦ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8920" y="836640"/>
            <a:ext cx="8882280" cy="59054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ете в приемную комиссию оригиналы документ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ите военно-врачебную комисси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ите профессионально-психологический отбор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ите  испытания по физической подготовлен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рмативы для юношей:                                Нормативы для девушек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2565360"/>
          <a:ext cx="4032360" cy="3967200"/>
        </p:xfrm>
        <a:graphic>
          <a:graphicData uri="http://schemas.openxmlformats.org/drawingml/2006/table">
            <a:tbl>
              <a:tblPr/>
              <a:tblGrid>
                <a:gridCol w="1782720"/>
                <a:gridCol w="554040"/>
                <a:gridCol w="565200"/>
                <a:gridCol w="565200"/>
                <a:gridCol w="56520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ж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ская молодеж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в/сл, проходящие службу по призыв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6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ягивание на перекладин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г на 100 м (сек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6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г на 3000 м (мин. сек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3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вание 100 м вольным стилем (мин. сек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3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вание 100 м способом брасс (мин. сек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643280" y="2637000"/>
          <a:ext cx="4321440" cy="4014720"/>
        </p:xfrm>
        <a:graphic>
          <a:graphicData uri="http://schemas.openxmlformats.org/drawingml/2006/table">
            <a:tbl>
              <a:tblPr/>
              <a:tblGrid>
                <a:gridCol w="1892520"/>
                <a:gridCol w="608040"/>
                <a:gridCol w="606240"/>
                <a:gridCol w="608040"/>
                <a:gridCol w="606600"/>
              </a:tblGrid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ж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896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лоны туловища впере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ол. раз в минут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298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г на 100 м (сек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598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г на 1000 м (мин. сек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896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вание 100 м вольным стилем  (мин. сек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897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вание 100 м способом брасс  (мин. сек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  <p:sp>
        <p:nvSpPr>
          <p:cNvPr id="68" name="Прямоугольник 5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9036000" cy="8366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дача вступительных испытаний в связи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о сложной эпидемиологической обстановкой  в 2020-2022г.г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78920" y="836640"/>
            <a:ext cx="8882280" cy="59054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0-2022г.г. из-за пандемии приём абитуриентов в военные образовательные организации Министерства обороны Российской Федерации (далее РФ)  проходили  по месту их проживания без переезда к месту учёб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75 субъектах РФ работали около 80 выездных приемных комиссий, куда вошли представители 35 вузов, специалисты профессионального психологического отбора и физической подготов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выездная группа отбирала кандидатов для поступления во все высшие военные учебные заведения Министерства обороны РФ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енбургской области работала выездная группа филиала Военной академии войсковой противовоздушной обороны ВС РФ г. Смоленс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комиссия принимала экзамены по физической подготовке и проводила профессионально-психологической отбор в период с 1 по 15 июля 2022 г., таким образом у кандидатов оставалась возможность сдавать документы в другие гр. вуз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000" y="120600"/>
            <a:ext cx="9036000" cy="8366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енное образование и карьера – один из реально работающих и очень эффективных социальных лифтов в нашем обществ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е денежное довольстви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8594640" y="-171360"/>
            <a:ext cx="74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 Ta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22400" y="1125360"/>
          <a:ext cx="9003960" cy="2102040"/>
        </p:xfrm>
        <a:graphic>
          <a:graphicData uri="http://schemas.openxmlformats.org/drawingml/2006/table">
            <a:tbl>
              <a:tblPr/>
              <a:tblGrid>
                <a:gridCol w="4863960"/>
                <a:gridCol w="4140000"/>
              </a:tblGrid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атегория военнослужащ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азмер денежного доволь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ант 1 кур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ант 2 курса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заключения контракт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1000 до 2060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ант 3-5 кур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2000 до 2200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порщ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2000 до 3700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йтен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45000 до 7000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й лейтенан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47000  до 75000 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о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0000  до 10000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07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ков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85000  до 12000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90440" y="3429000"/>
          <a:ext cx="8785440" cy="3062160"/>
        </p:xfrm>
        <a:graphic>
          <a:graphicData uri="http://schemas.openxmlformats.org/drawingml/2006/table">
            <a:tbl>
              <a:tblPr/>
              <a:tblGrid>
                <a:gridCol w="2016360"/>
                <a:gridCol w="1081080"/>
                <a:gridCol w="1353960"/>
                <a:gridCol w="1085760"/>
                <a:gridCol w="1176480"/>
                <a:gridCol w="1177920"/>
                <a:gridCol w="893880"/>
              </a:tblGrid>
              <a:tr h="1954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атегор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оеннослужащ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gridSpan="6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адбавки за квалификационный уровень физической подготовл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(1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(7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порт. разряд 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М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тер 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ант 1 кур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ант 2 курса (после заключения контрак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порщ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йтен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ков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76" name="Прямоугольник 6"/>
          <p:cNvSpPr/>
          <p:nvPr/>
        </p:nvSpPr>
        <p:spPr>
          <a:xfrm>
            <a:off x="8675640" y="49320"/>
            <a:ext cx="468360" cy="4078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1T17:29:32Z</dcterms:created>
  <dc:creator>Пользователь</dc:creator>
  <dc:description/>
  <dc:language>en-US</dc:language>
  <cp:lastModifiedBy>Ферапонтова Л Е</cp:lastModifiedBy>
  <cp:lastPrinted>2018-10-26T09:55:59Z</cp:lastPrinted>
  <dcterms:modified xsi:type="dcterms:W3CDTF">2022-11-23T14:08:47Z</dcterms:modified>
  <cp:revision>332</cp:revision>
  <dc:subject/>
  <dc:title>Презентация PowerPoint</dc:title>
</cp:coreProperties>
</file>